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2F1E-5B35-4265-8460-FC04F155E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8FAA-8084-49DD-9758-9DA49664F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BF5-EDB3-425D-925A-52920B28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499-7858-4FF0-8356-61308C9E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FF2-7E85-4F9E-B7FF-BB648DC2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20C-610E-43FC-ABD5-EB25CB9D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11F1-FA07-477A-BE6B-69EA9723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E30-F600-4DD0-974B-AFAEC786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A3F-2BF0-471F-8C0B-C86BF15B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E90-FC91-4606-9ADA-153A2DCF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1B81-39CC-4551-8EA8-ED6FC3ED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661B-29FF-4992-AEC6-9FDB50F2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F46-6C24-4991-B997-49908A50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CC6-D492-4F98-B3C8-C2286D31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001268"/>
          <p:cNvPicPr/>
          <p:nvPr/>
        </p:nvPicPr>
        <p:blipFill>
          <a:blip r:embed="rId2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120" y="5181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3C02-62B2-442B-A4A4-1E57DB4A7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90720" y="914400"/>
          <a:ext cx="7467480" cy="271296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’d like to help homeless peopl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he decided to try out for a volunteer after-school reading program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You could ask hospitals to let you visit the kids and cheer them up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</a:tbl>
          </a:graphicData>
        </a:graphic>
      </p:graphicFrame>
      <p:sp>
        <p:nvSpPr>
          <p:cNvPr id="50" name="Oval 12"/>
          <p:cNvSpPr/>
          <p:nvPr/>
        </p:nvSpPr>
        <p:spPr>
          <a:xfrm>
            <a:off x="2895480" y="0"/>
            <a:ext cx="3454560" cy="828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900" spc="-1" strike="noStrike">
                <a:solidFill>
                  <a:srgbClr val="0000cc"/>
                </a:solidFill>
                <a:latin typeface="Times New Roman"/>
              </a:rPr>
              <a:t>Grammar Focu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90720" y="3657600"/>
          <a:ext cx="7467480" cy="320040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ario believes it can help him to get his future dream job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he volunteers there once a week to help kids lean to rea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I’m making some signs to put up around the school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5160" y="660240"/>
            <a:ext cx="6091200" cy="60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without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t; estab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something 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someone hap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in the open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something happen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 something to somebody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help someone who needs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hang or stick something on (a bo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467480" y="1484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lean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683480" y="52293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pu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7391520" y="2133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heer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553080" y="27050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ork out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7238880" y="45813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offe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7740720" y="5877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put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7543800" y="3933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giv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95880" y="33526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homeles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7667640" y="833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se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3780000" y="1628640"/>
            <a:ext cx="2376360" cy="201636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 flipV="1">
            <a:off x="2771640" y="1196640"/>
            <a:ext cx="5040360" cy="10494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V="1">
            <a:off x="3995640" y="1844640"/>
            <a:ext cx="3457800" cy="96984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V="1">
            <a:off x="4211640" y="2492280"/>
            <a:ext cx="3313080" cy="8352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 flipV="1">
            <a:off x="3635280" y="2997000"/>
            <a:ext cx="3024360" cy="105876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4572000" y="4581360"/>
            <a:ext cx="3240000" cy="16560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 flipV="1">
            <a:off x="5651640" y="4292640"/>
            <a:ext cx="2089080" cy="7207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V="1">
            <a:off x="4932360" y="4941720"/>
            <a:ext cx="2448000" cy="68904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 flipV="1">
            <a:off x="6156360" y="5589720"/>
            <a:ext cx="1655640" cy="4651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1187280" y="260280"/>
            <a:ext cx="71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Can you match the phras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8360" y="1413000"/>
          <a:ext cx="8229600" cy="4460760"/>
        </p:xfrm>
        <a:graphic>
          <a:graphicData uri="http://schemas.openxmlformats.org/drawingml/2006/table">
            <a:tbl>
              <a:tblPr/>
              <a:tblGrid>
                <a:gridCol w="2016000"/>
                <a:gridCol w="4330800"/>
                <a:gridCol w="1882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hrasal verb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entenc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eaning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heer 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 looks sad. Let’s cheer him u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ke sb ha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ive 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’re going to give out money to the poo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nd 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me up wit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need to come up with some ide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nk 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28"/>
          <p:cNvSpPr/>
          <p:nvPr/>
        </p:nvSpPr>
        <p:spPr>
          <a:xfrm>
            <a:off x="2923200" y="609480"/>
            <a:ext cx="196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词短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一、定义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词之后加介词或副词构成短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种特定的含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称为动词短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二、分类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介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副词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它类动词词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3640" y="692280"/>
            <a:ext cx="8507160" cy="5433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动词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介词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at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like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上去像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after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照料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sten to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听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lcome to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欢迎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y hello to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ak to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类短语相当于及物动词，其后必须带宾语，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无论是名词还是代词，都要放在介词之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He is looking after his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always takes care of these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动词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副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副词”所构成的短语义分为两类：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．动词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vt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副词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on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穿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off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down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记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类短语可以带宾语，宾语若是名词，放在副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前后皆可；宾语若是人称代词，只能放在副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He took off his co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．动词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vi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副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e on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赶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t up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 home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家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e in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t down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坐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 up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类短语属于不及物动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可以带宾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 Come on! The bus is com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47640" y="1628640"/>
            <a:ext cx="417672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se the do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the s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 to work/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 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a look/se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su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yo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 shopp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tch TV/g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y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755640" y="692280"/>
            <a:ext cx="54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、其它类动词词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ut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引导的短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a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o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i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黑体"/>
              </a:rPr>
              <a:t>常用短语及用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492360" y="2133720"/>
            <a:ext cx="5327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穿上，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举起，表现出，张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推迟，拖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入，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翻译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记下，放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出，伸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giv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引导的短语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356000" y="1413000"/>
            <a:ext cx="403236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屈服，让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发，散发；用尽，耗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捐赠，赠送；分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归还，恢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出，放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186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all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引导的短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l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l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l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l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l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59280" y="1916280"/>
            <a:ext cx="5545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访问（某人）；号召；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电话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使人想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找来，请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访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车，船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停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需要，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词不定式是一种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非谓语动词形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其结构为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＋动词原形”，其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是介词，而是动词不定式的符号，称为小品词，动词不定式没有人称和数的变化。动词不定式和其后面的名词等构成不定式短语，在句子中可以用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主语、表语、宾语、补足语、定语、状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。本单元主要学习其作宾语，状语，宾补的用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894400" y="228600"/>
            <a:ext cx="27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词不定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97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４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由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ake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引导的短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d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356000" y="1700280"/>
            <a:ext cx="360072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拿回；使疑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拿走，减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下，记下；拆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占据空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接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下；飞机起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4020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look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引导的短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af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ou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140360" y="981000"/>
            <a:ext cx="4321080" cy="48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照顾，照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寻找，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调查；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里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浏览，快速地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查找，查询；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看起来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4020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how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引导的短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00720" y="2421000"/>
            <a:ext cx="3671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现，露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炫耀，卖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43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ur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引导的短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203640" y="1268280"/>
            <a:ext cx="568944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音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大；出现，到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煤气、水、电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音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小；拒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助；转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转，翻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归还，就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果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证明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生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533520" y="2819520"/>
            <a:ext cx="81532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I want to_______  my plan to work in an   animal hospital until next summer. I’m too busy with my studies this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She hopes to________________ at least five primary schools to ask if they need volunteers for their after-school progra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74320" y="533520"/>
            <a:ext cx="88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a Fill in the blanks with phrasal verbs in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838080" y="1447920"/>
            <a:ext cx="693432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ut up     hand out   call up    cheer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ome up with     give out        put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743200" y="2819520"/>
            <a:ext cx="13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ut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10600" y="4648320"/>
            <a:ext cx="13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ll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762120" y="1066680"/>
            <a:ext cx="79246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Our class is trying to____________ some   ideas to_________ sick children because they are often s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We decided to _________signs around the school and_________ notices to tell students about the book sale. We will_________ the money from the sale to homeless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952520" y="1143000"/>
            <a:ext cx="25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me up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362680" y="1676520"/>
            <a:ext cx="168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eer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039200" y="2971800"/>
            <a:ext cx="13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u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2895480" y="365760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n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5866560" y="41911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v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304920" y="571680"/>
            <a:ext cx="883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) I’d like ______ homeless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) She decided _________ for a volunteer after-school reading progr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) You could ask hospitals ____ you visit the kids and cheer them 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) Mario believes it can help him _____ his future dream jo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) She volunteers there once a week ______ kids learn 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) I’m making some signs ________ around the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8880" y="4428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ill in the bl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363760" y="53352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78160" y="106668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try 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488560" y="225432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800760" y="327672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7392960" y="434340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685960" y="495288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334480" y="541008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put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80880" y="1066680"/>
            <a:ext cx="868680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I want _________ (become) a policeman one day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He wants the students _____ (eat) well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The teacher made his students _____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   　　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come) into the meeting room on ti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The boy was free _____ (go) where he lik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Nobody tells him what _____ (do) nex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457200"/>
            <a:ext cx="8280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根据提示完成下列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211840" y="1066680"/>
            <a:ext cx="21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be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335920" y="236232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936480" y="30481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344840" y="426708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335560" y="556272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anguage points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I’v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n out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n out of = use up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完”、“卖光”。句子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是人或使用的物。注意不能用于被动语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I am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nning out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my money.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money is running out 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r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nning out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gas.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r car is running out of the g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I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ke aft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my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ke aft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为“在外貌、性格等方面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像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aft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思相近的词组还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去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like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x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 up = repair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修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fasten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安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I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w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awa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意为“赠送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85345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  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.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作宾语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 动词不定式（短语）可以放在一些动词后面用作宾语，能以动词不定式作宾语的动词有：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begin, want, remember, agree, learn, like, decide, fail, pretend, demand, refu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。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nt to tell you a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begin to work at eight every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 forget to lock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uld you like to go and have a picnic with us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4582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I’d like t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nk yo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sending money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imal Helpers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, an organizatio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t u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disabled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“Animal Helpers”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助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帮助残疾人而建立的组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 thank sb. for…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感谢某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Thank you for your flower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 set u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导的是一个省去关系代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语从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Thomas has a lab set up him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28600" y="85104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You helped to mak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sible for m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have Luck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04920" y="2286000"/>
            <a:ext cx="8839080" cy="10688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句中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形式宾语，真正的宾语是后面的动词不定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Luck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80880" y="38098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发现学好英语对我们来说很有必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find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cessary for u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learn English w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762120" y="1066680"/>
            <a:ext cx="7704000" cy="470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82680" y="1220760"/>
            <a:ext cx="84582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超链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t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还可用作形式主语，而把真正的主语置于句尾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太多的电视对你的眼睛有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s bad for your eye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watch too much T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见到你真高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so nic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see yo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I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 excited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idea of having a do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28600" y="1905120"/>
            <a:ext cx="8610480" cy="19458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 excited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意为“对……感到兴奋”，主语通常是人 ；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xcit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意为“令人感到兴奋的”，主语通常是物或事件。其他类似的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rprising / surprised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；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resting / interest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等也是这样区分的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80880" y="49528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对这本有趣的书很感兴趣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ver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nterest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 thi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nterest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424720" cy="5434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You see,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’m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ble 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ave a “dog-help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cause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r kindness!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句中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able to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为“能够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事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替换，主语为物时一般都使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没有将来时和完成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不能用于其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助动词后面，所以常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able to do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来替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ause o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介词短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原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面接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词或代词宾语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连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常接从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Then one day last year, a friend of mine said that she would like 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help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为 “使某人脱离困境”可分开使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57200" y="2819520"/>
            <a:ext cx="838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我失业的时候没有人帮助我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bod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lp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u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I lost my j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有点出乎意料但我想如果价格合适的话我可以帮忙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was unexpected but I coul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lp 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f the price was right, I though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24000" y="189000"/>
            <a:ext cx="849600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3333ff"/>
                </a:solidFill>
                <a:latin typeface="Times New Roman"/>
              </a:rPr>
              <a:t>开灯的故事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有一个盲人住在一栋楼里。每天晚上他都会到楼下花园去散步。奇怪的是，不论是上楼还是下楼，他虽然只能顺着墙摸索，却一定要按亮楼道里的灯。一天，一个邻居忍不住，好奇地问道：“你的眼睛看不见，为何还要开灯呢？”。盲人回答道：“开灯能给别人上下楼带来方便，也会给我带来方便。”邻居疑惑地问道：“开灯能给你带来什么方便呢？”。盲人答道：“开灯后，上下楼的人都会看见东西，就不会把我撞倒了，这不就给我方便了吗。”邻居这才恍然大悟。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468360" y="314172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很多时候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帮助别人就是帮助自己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在帮助别人的时候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的收获也许会远远大于你的付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68360" y="69228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 rose’s in her hand, the flavor in m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9640" y="2060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赠人玫瑰，手有余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8802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 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作宾语补足语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teacher asked u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read English for half an hour in the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teacher often tells Jim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 to spend too   much time playing computer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lease let m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lp you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词不定式作宾语补足语，表示宾语所做的动作，可以用动词不定式作宾语补足语的动词有：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ell, ask, want, like, invite, encourage, hel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380880"/>
            <a:ext cx="86868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但在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et, make, see, watch, hear, feel, notice, have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等感官听觉动词或使役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面作宾语补足语的动词不定式一般要省略动词不定式符号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以归纳为以下三种句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可以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不定式作宾语补足语：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l /ask / want / would like / wish / suppose / invite /encourage /teach/ depend 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sb.+ to do sth. 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told us to come earlier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nt you to go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r parents wish her to be a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94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   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省“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o”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的不定式作宾语补足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t / make / have + sb. +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 the boy go ou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made the baby c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 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e / watch / hear / notice / feel + sb. +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aw the students play basketball on the playground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often hear the girl sing in the next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 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可省可不省的：  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lp sb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 sth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often help my mothe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hous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否定形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动词不定式的否定式是直接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前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ell them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to play football in the str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动词不定式的否定式是直接在动词前面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et the bo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549360"/>
            <a:ext cx="853452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作状语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作目的状语。如：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He stopp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have a res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强调动词不定式所表示的目的时，动词不定式可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rder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as to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词原形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as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用于句首。如：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bus stopp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 as to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ick up passe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作结果状语。如：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He woke u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ly to find everybody gon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His grandma liv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see the liberation of Chin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He is old enough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go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609480" y="1371600"/>
            <a:ext cx="76201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在某些表示喜、怒、哀、乐等的形容词后作原因状语。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I’m prou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have taken part in the competitions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.g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’m happy to have found many things I can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4-06-11T05:48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